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E9E-3DC8-45D4-81C8-4009F114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A7B6-98AB-4307-AA95-74B619EC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F94-0A41-4DC5-9995-A7432928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9F2-4CBA-420E-B1D3-03CC7C5F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B7E1-187E-4AF1-91E2-93FECE37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B27F-84FB-407E-A571-6234D923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A3E0-76AF-46BF-89E5-4580C347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6B0-183B-48A2-8999-FDF66780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37F-5937-42BD-80B9-E11667EE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2047-1F12-45CE-A72A-52BB37E5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BABB-5F2A-4761-8F0A-7304B949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20A-137C-42D0-ACE6-9B91F481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9E05-27F6-44D8-BE35-1230460E6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A ANADOLU LİSES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NULARINA GÖRE ŞİİR TÜRLER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zırlayan:DENİZ GRU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Ergül CELEP,Nursun KARAGÜL,Emel USLU,                         Nilüfer BEYAZ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1439640" cy="1197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380360" y="5373720"/>
            <a:ext cx="14396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Ç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Şiir sevgisi kazandırm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Şiir türlerini öğretm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unan bir şiirin konusundan hangi gruba ait olduğunu kavratm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ÖZ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Şiirler konularına gör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 lirik( coşku ve heyecanı anlatan), epik(konusu yiğitlik ve kahramanlık olan ), didaktik(öğreticilik esası taşıyan),pastoral(çoban ve doğa güzelliği olan)ve dramatik( tiyatro tekniğine uygun olan) olmak üzere gruplara ayrılı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EL SO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ygu paylaşımı neden bir ihtiyaçtı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NİTE SORULA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Şiirde konu ve tema ned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Konularına göre şiir türleri nelerdir?  3)Şiirleri gruplara ayırırken hangi ölçütlere bakarız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İÇERİK SORULA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Konusu doğa güzelliği ve çoban hayatı olan şiirlere ne ad verilir?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Coşku ve heyecanı anlatan şiirlere ne ad verili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Türk edebiyatında çok fazla örneği olmayan şiir türü hangisidir ve bunun sebebi nedi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Dramatik şiir dendiğinde Türk edebiyatında hangi şair akla geli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Temel Sorular ve Ünite Sorularını aşağıdaki amaçlarla kullanacağım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uşurken ve yazarken düşünceleri ve fikirleri açık ve etkili bir şekilde birleştirip kullanm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klı takımlarda etkin çalışabilme becerisi gösterm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ak bir amaca ulaşabilmek için gerekli çabayı gösterecek şekilde esnek ve istekli olm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İşbirliğine dayalı çalışmalar için sorumluluğu paylaşm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Öğrenci Gereksinimlerini Ölç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rial"/>
              </a:rPr>
              <a:t>Ölçme sonucunda ne öğreneceği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Öğrencilerimin bu konuyu ne kadar öğrendikler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Öğrenilenlerin uygulama ve uyarlama dereces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Şiirlerle dolu bir yaşam umuduyl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şekkür ederiz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9:42:37Z</dcterms:created>
  <dc:creator>KEDİ</dc:creator>
  <dc:description/>
  <dc:language>en-US</dc:language>
  <cp:lastModifiedBy>KEDİ</cp:lastModifiedBy>
  <dcterms:modified xsi:type="dcterms:W3CDTF">2011-01-06T10:47:05Z</dcterms:modified>
  <cp:revision>5</cp:revision>
  <dc:subject/>
  <dc:title>Slayt 1</dc:title>
</cp:coreProperties>
</file>